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2F883-7096-4AE3-A48D-4979F90F2FE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F1A0E-70F6-4504-B3C8-B0FE2BB0087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020622-AC01-4B66-9A32-8B463C658F7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105F6-76DB-47AB-AF5E-176530A7240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02521-D9B3-4449-BBE6-311B22D3C57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1CC2E-3DE9-465A-8CBC-2BC5EDA48D7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DDE18-E409-4E53-B0B7-792ECFEEFEE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058AB-A10D-4BBE-8690-746FBE46F7C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9D2C0-C3A6-4654-84CB-F683DD87D71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uxe exemplos de coisas parecidas com Ficha Técnica como: receita de Bolo, Catálogo de Produtos, Cardáp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7B3A4-CDF7-4668-ABB2-DC52DCF109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ED816-597C-402A-ADB6-068AEC65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D486F-9C9D-4B90-BDEF-A3607C4D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F8007-7B24-469A-8A3E-9CD856895C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58060-C13E-40D8-925A-7D1A3D6A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1922C-3E30-4859-83D5-9334BF1D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82613-7038-4820-A261-CF85143A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47326-F49F-4C1A-9457-6B2052C9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230D4-8C68-4CEE-8512-9A454F68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0FC26-D302-494C-AF8B-08A49770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3A098-E007-46D3-B158-A6A7CBFE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F01CD-53DB-4ED3-B3A0-81DB818C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BD080C-33DA-48E6-9131-7F71770DEEEF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889280" y="1143000"/>
            <a:ext cx="53974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6836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As Fichas Técnicas devem conter, da forma mais simples possível, todas as informações necessárias ao bom desempenho da tarefa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A forma das Fichas não é importante. O importante é ser capaz de levar a cada executor todas as informações necessária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etirado do site do Sebrae S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206280" y="1125360"/>
            <a:ext cx="8686800" cy="46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iar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ntar, Imagina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truir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esfazer, tornar em nada algo que existi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ltivar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penhar-se para manter vivo ou conserva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nte: wikicionári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atemática da Criatividad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2060640"/>
            <a:ext cx="35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 Idéia Criad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1 Idéia Destruíd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ZERO idéias1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2060640"/>
            <a:ext cx="35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 Idéia Criad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1 Idéia Mantid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alibri"/>
              </a:rPr>
              <a:t>1 Idéia Cultivad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539640" y="551664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ovação é aplicar a idéia correta no momento correto; portanto, guarde suas idéias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57200" y="450864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apacitação em Desig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icha Técni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rcRect l="0" t="0" r="0" b="14309"/>
          <a:stretch/>
        </p:blipFill>
        <p:spPr>
          <a:xfrm>
            <a:off x="2484360" y="1003320"/>
            <a:ext cx="404028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500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Perguntas Introdutória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889280"/>
            <a:ext cx="8228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Calibri"/>
              </a:rPr>
              <a:t>O que tem a ver a palavra “padronização” com “criatividade”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1280"/>
            <a:ext cx="822816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Calibri"/>
              </a:rPr>
              <a:t>Se surge uma boa encomenda de um produto criado “no ano passado” como se faz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Calibri"/>
              </a:rPr>
              <a:t>As vendas do “produto X” aumentaram e é preciso chamar mais gente para o grupo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Calibri"/>
              </a:rPr>
              <a:t>Como os novos integrantes irão produzir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bjetivo da Capacitaçã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  <a:ea typeface="MS Gothic"/>
              </a:rPr>
              <a:t> </a:t>
            </a:r>
            <a:r>
              <a:rPr b="0" lang="pt-BR" sz="4000" spc="-1" strike="noStrike">
                <a:solidFill>
                  <a:srgbClr val="000000"/>
                </a:solidFill>
                <a:latin typeface="Calibri"/>
                <a:ea typeface="MS Gothic"/>
              </a:rPr>
              <a:t>Compreender a criação e uso de Fichas Técnicas para ganho na qualidade da produção e registro das idéias e produtos criado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  <a:ea typeface="MS Gothic"/>
              </a:rPr>
              <a:t> </a:t>
            </a:r>
            <a:r>
              <a:rPr b="0" lang="pt-BR" sz="4000" spc="-1" strike="noStrike">
                <a:solidFill>
                  <a:srgbClr val="000000"/>
                </a:solidFill>
                <a:latin typeface="Calibri"/>
                <a:ea typeface="MS Gothic"/>
              </a:rPr>
              <a:t>Criação de Ficha Técnica de pelo menos um tipo de produto do Grupo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ixaDeTexto 1"/>
          <p:cNvSpPr/>
          <p:nvPr/>
        </p:nvSpPr>
        <p:spPr>
          <a:xfrm>
            <a:off x="0" y="500040"/>
            <a:ext cx="9144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6600" spc="-1" strike="noStrike">
                <a:solidFill>
                  <a:srgbClr val="000000"/>
                </a:solidFill>
                <a:latin typeface="Calibri"/>
              </a:rPr>
              <a:t>Dinâmica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ção de um “Móbile”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68360" y="1800360"/>
            <a:ext cx="822960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spcBef>
                <a:spcPts val="1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Calibri"/>
              </a:rPr>
              <a:t>Mas o que é Ficha Técnica?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2:58:01Z</dcterms:created>
  <dc:creator>Comercialização</dc:creator>
  <dc:description/>
  <dc:language>en-US</dc:language>
  <cp:lastModifiedBy>Saga - Design</cp:lastModifiedBy>
  <dcterms:modified xsi:type="dcterms:W3CDTF">2010-01-18T17:23:44Z</dcterms:modified>
  <cp:revision>29</cp:revision>
  <dc:subject/>
  <dc:title>Slide 1</dc:title>
</cp:coreProperties>
</file>