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CD1-DDDD-419C-94B8-5A34217B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4D0-409C-4561-B10B-B350BC2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C8A-02E8-4B52-97F4-96DA1CFD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262-7A15-4D8E-848F-7F50E5B6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A10-3E5F-4D81-95CE-140EEB92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675-D9E2-4034-8036-B4F1F75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B47-2A23-4A8E-ABD5-B62FCC1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A21-2A14-4833-A382-DA7B519B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A6E-E784-4433-831F-73BD70B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D39-1CC7-4EC0-9CFC-1A92BB6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F78-7A8B-41CA-BBB7-8D646DD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BDD-0A36-456D-B7B0-2CC3D47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B35-2B69-4941-846D-5B22C31F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O que é estil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24206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is são os tipos de estil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1773000"/>
            <a:ext cx="8893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al o estilo de seus produt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al o estilo de seus client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iste um estilo melhor do que out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6381360"/>
            <a:ext cx="874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nri Mati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2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andin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o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560" y="571464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Van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23:43:26Z</dcterms:created>
  <dc:creator>pedro</dc:creator>
  <dc:description/>
  <dc:language>en-US</dc:language>
  <cp:lastModifiedBy>pedro</cp:lastModifiedBy>
  <dcterms:modified xsi:type="dcterms:W3CDTF">2012-06-26T23:49:31Z</dcterms:modified>
  <cp:revision>2</cp:revision>
  <dc:subject/>
  <dc:title>O que é estilo?</dc:title>
</cp:coreProperties>
</file>