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7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70360" y="-360"/>
            <a:ext cx="2962080" cy="498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25200" y="749160"/>
            <a:ext cx="4986360" cy="374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406b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94784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70360" y="9478440"/>
            <a:ext cx="2962080" cy="498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pt-B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903E0964-ACC7-4332-A314-A5F423D8CAEC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983AF245-F41B-4C77-952F-B8E9DA02F621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55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255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orges Seurat foi um pintor francês e pioneiro do movimento artístico chamado pontilhis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ço Reservado para Número de Slide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F205CBAB-CC7C-4F56-937C-3FAC2CBEAF34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255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orges Seurat foi um pintor francês e pioneiro do movimento artístico chamado pontilhis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ço Reservado para Número de Slide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FAC2EC90-53F2-44B4-8A19-B5B893C28DE4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255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orges Seurat foi um pintor francês e pioneiro do movimento artístico chamado pontilhis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ço Reservado para Número de Slide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E12816AA-CFA6-4916-B13E-92AA9BF87C35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255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ço Reservado para Número de Slide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36F243E9-AE90-449D-8E54-7A4ADE9E5D3D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255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ço Reservado para Número de Slide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D70963C3-D59A-4D75-81BF-81F7FFD982C1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255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ço Reservado para Número de Slide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712C6C3A-A605-4FF1-B37A-F8BC0EC9BDA2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255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ar exemplos: sol luz ideal, dizer que mudando um pode mudar a “cor”.... Se for escuro.. Se estiver numa luz amarela... Se a pessoa for daltonica... Se estiver de oculos escuros... E o subjetivo é o que está na “mente” da pesso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ço Reservado para Número de Slide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E6430643-A72B-418A-B6EE-F99540F1FB59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255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orges Seurat foi um pintor francês e pioneiro do movimento artístico chamado pontilhis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spaço Reservado para Número de Slide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F58BAFB2-A37E-4BDD-9087-AA71DD7213B0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63468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346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406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e406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2e40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406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2e40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406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700"/>
              </a:spcBef>
              <a:buClr>
                <a:srgbClr val="2e40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406b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700"/>
              </a:spcBef>
              <a:buClr>
                <a:srgbClr val="2e40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406b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  <a:p>
            <a:pPr lvl="4" marL="2057400" indent="-228600">
              <a:lnSpc>
                <a:spcPct val="130000"/>
              </a:lnSpc>
              <a:spcBef>
                <a:spcPts val="700"/>
              </a:spcBef>
              <a:buClr>
                <a:srgbClr val="2e40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406b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  <a:p>
            <a:pPr lvl="5" marL="2057400" indent="-2286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406b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  <a:p>
            <a:pPr lvl="6" marL="2057400" indent="-2286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406b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:\Documents and Settings\Eduardo G Camargo\Desktop\AE\biblioteca id visual AE + Solidarium\AliancaEmpreendedora-Marca-vs102.jpg"/>
          <p:cNvPicPr/>
          <p:nvPr/>
        </p:nvPicPr>
        <p:blipFill>
          <a:blip r:embed="rId1"/>
          <a:stretch/>
        </p:blipFill>
        <p:spPr>
          <a:xfrm>
            <a:off x="1889280" y="1143000"/>
            <a:ext cx="53974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La Parade 1888 - Georges Seurat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6158160"/>
          </a:xfrm>
          <a:prstGeom prst="rect">
            <a:avLst/>
          </a:prstGeom>
          <a:ln w="0">
            <a:noFill/>
          </a:ln>
        </p:spPr>
      </p:pic>
      <p:sp>
        <p:nvSpPr>
          <p:cNvPr id="67" name="CaixaDeTexto 4"/>
          <p:cNvSpPr/>
          <p:nvPr/>
        </p:nvSpPr>
        <p:spPr>
          <a:xfrm>
            <a:off x="71640" y="6286680"/>
            <a:ext cx="5516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"La Parade du Cirque" , Georges Seurat (1888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La Parade 1888 - Georges Seurat"/>
          <p:cNvPicPr/>
          <p:nvPr/>
        </p:nvPicPr>
        <p:blipFill>
          <a:blip r:embed="rId3"/>
          <a:stretch/>
        </p:blipFill>
        <p:spPr>
          <a:xfrm>
            <a:off x="7500960" y="1785960"/>
            <a:ext cx="1643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La Parade 1888 - Georges Seurat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6158160"/>
          </a:xfrm>
          <a:prstGeom prst="rect">
            <a:avLst/>
          </a:prstGeom>
          <a:ln w="0">
            <a:noFill/>
          </a:ln>
        </p:spPr>
      </p:pic>
      <p:sp>
        <p:nvSpPr>
          <p:cNvPr id="71" name="CaixaDeTexto 4"/>
          <p:cNvSpPr/>
          <p:nvPr/>
        </p:nvSpPr>
        <p:spPr>
          <a:xfrm>
            <a:off x="71640" y="6286680"/>
            <a:ext cx="5516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"La Parade du Cirque" , Georges Seurat (1888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La Parade 1888 - Georges Seurat"/>
          <p:cNvPicPr/>
          <p:nvPr/>
        </p:nvPicPr>
        <p:blipFill>
          <a:blip r:embed="rId3"/>
          <a:stretch/>
        </p:blipFill>
        <p:spPr>
          <a:xfrm>
            <a:off x="7500960" y="1785960"/>
            <a:ext cx="1643040" cy="20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La Parade (detalhe), Seurat"/>
          <p:cNvPicPr/>
          <p:nvPr/>
        </p:nvPicPr>
        <p:blipFill>
          <a:blip r:embed="rId4"/>
          <a:stretch/>
        </p:blipFill>
        <p:spPr>
          <a:xfrm>
            <a:off x="2928960" y="642960"/>
            <a:ext cx="32497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La Parade 1888 - Georges Seurat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6158160"/>
          </a:xfrm>
          <a:prstGeom prst="rect">
            <a:avLst/>
          </a:prstGeom>
          <a:ln w="0">
            <a:noFill/>
          </a:ln>
        </p:spPr>
      </p:pic>
      <p:sp>
        <p:nvSpPr>
          <p:cNvPr id="76" name="CaixaDeTexto 4"/>
          <p:cNvSpPr/>
          <p:nvPr/>
        </p:nvSpPr>
        <p:spPr>
          <a:xfrm>
            <a:off x="71640" y="6286680"/>
            <a:ext cx="5516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"La Parade du Cirque" , Georges Seurat (1888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La Parade 1888 - Georges Seurat"/>
          <p:cNvPicPr/>
          <p:nvPr/>
        </p:nvPicPr>
        <p:blipFill>
          <a:blip r:embed="rId3"/>
          <a:stretch/>
        </p:blipFill>
        <p:spPr>
          <a:xfrm>
            <a:off x="7500960" y="1785960"/>
            <a:ext cx="1643040" cy="2000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La Parade (detalhe), Seurat"/>
          <p:cNvPicPr/>
          <p:nvPr/>
        </p:nvPicPr>
        <p:blipFill>
          <a:blip r:embed="rId4"/>
          <a:stretch/>
        </p:blipFill>
        <p:spPr>
          <a:xfrm>
            <a:off x="1162080" y="142920"/>
            <a:ext cx="676764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Eduardo G Camargo\Desktop\sb10065316z-001.jpg"/>
          <p:cNvPicPr/>
          <p:nvPr/>
        </p:nvPicPr>
        <p:blipFill>
          <a:blip r:embed="rId2"/>
          <a:stretch/>
        </p:blipFill>
        <p:spPr>
          <a:xfrm>
            <a:off x="0" y="0"/>
            <a:ext cx="9178920" cy="6143760"/>
          </a:xfrm>
          <a:prstGeom prst="rect">
            <a:avLst/>
          </a:prstGeom>
          <a:ln w="0">
            <a:noFill/>
          </a:ln>
        </p:spPr>
      </p:pic>
      <p:sp>
        <p:nvSpPr>
          <p:cNvPr id="81" name="CaixaDeTexto 4"/>
          <p:cNvSpPr/>
          <p:nvPr/>
        </p:nvSpPr>
        <p:spPr>
          <a:xfrm>
            <a:off x="356400" y="6286680"/>
            <a:ext cx="85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televisão também mistura pontos coloridos. Usa o Vermelho, Verde e Az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ocacola"/>
          <p:cNvPicPr/>
          <p:nvPr/>
        </p:nvPicPr>
        <p:blipFill>
          <a:blip r:embed="rId1"/>
          <a:stretch/>
        </p:blipFill>
        <p:spPr>
          <a:xfrm>
            <a:off x="4897440" y="714240"/>
            <a:ext cx="3389400" cy="2571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214200" y="4429080"/>
            <a:ext cx="3171960" cy="2214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6622920" y="4357800"/>
            <a:ext cx="2378160" cy="2428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C:\Documents and Settings\Eduardo G Camargo\Desktop\ga.jpg"/>
          <p:cNvPicPr/>
          <p:nvPr/>
        </p:nvPicPr>
        <p:blipFill>
          <a:blip r:embed="rId4"/>
          <a:stretch/>
        </p:blipFill>
        <p:spPr>
          <a:xfrm>
            <a:off x="1000080" y="42876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:\Documents and Settings\Eduardo G Camargo\Desktop\13DAC3_4.jpg"/>
          <p:cNvPicPr/>
          <p:nvPr/>
        </p:nvPicPr>
        <p:blipFill>
          <a:blip r:embed="rId5"/>
          <a:stretch/>
        </p:blipFill>
        <p:spPr>
          <a:xfrm>
            <a:off x="3643200" y="4416480"/>
            <a:ext cx="27147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m 6" descr="PPT Combinacao de Cor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pantone_top_100_colors_detail"/>
          <p:cNvPicPr/>
          <p:nvPr/>
        </p:nvPicPr>
        <p:blipFill>
          <a:blip r:embed="rId2"/>
          <a:stretch/>
        </p:blipFill>
        <p:spPr>
          <a:xfrm>
            <a:off x="0" y="1285920"/>
            <a:ext cx="4502160" cy="4429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ores-pantone"/>
          <p:cNvPicPr/>
          <p:nvPr/>
        </p:nvPicPr>
        <p:blipFill>
          <a:blip r:embed="rId3"/>
          <a:stretch/>
        </p:blipFill>
        <p:spPr>
          <a:xfrm>
            <a:off x="4786200" y="1285920"/>
            <a:ext cx="43578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213840"/>
            <a:ext cx="8229600" cy="58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600" spc="-1" strike="noStrike">
                <a:solidFill>
                  <a:srgbClr val="2e406b"/>
                </a:solidFill>
                <a:latin typeface="Arial"/>
              </a:rPr>
              <a:t>Círculo das Cores - Matiz</a:t>
            </a:r>
            <a:endParaRPr b="0" lang="en-US" sz="96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143000" y="1000080"/>
            <a:ext cx="6858000" cy="5869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213840"/>
            <a:ext cx="8229600" cy="58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2e406b"/>
                </a:solidFill>
                <a:latin typeface="Arial"/>
              </a:rPr>
              <a:t>Círculo das Cores - Matiz</a:t>
            </a:r>
            <a:endParaRPr b="0" lang="en-US" sz="48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600" spc="-1" strike="noStrike">
                <a:solidFill>
                  <a:srgbClr val="2e406b"/>
                </a:solidFill>
                <a:latin typeface="Arial"/>
              </a:rPr>
              <a:t>Escala de Saturação de Cores</a:t>
            </a:r>
            <a:endParaRPr b="0" lang="en-US" sz="96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349992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e406b"/>
                </a:solidFill>
                <a:latin typeface="Calibri"/>
              </a:rPr>
              <a:t>Capacitação em Design</a:t>
            </a: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2e406b"/>
                </a:solidFill>
                <a:latin typeface="Calibri"/>
              </a:rPr>
              <a:t>Combinação de Cores</a:t>
            </a:r>
            <a:endParaRPr b="0" lang="en-US" sz="4000" spc="-1" strike="noStrike">
              <a:solidFill>
                <a:srgbClr val="2e406b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406b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e406b"/>
                </a:solidFill>
                <a:latin typeface="Calibri"/>
              </a:rPr>
              <a:t>Encontro 1 de 2</a:t>
            </a:r>
            <a:endParaRPr b="0" lang="en-US" sz="1800" spc="-1" strike="noStrike">
              <a:solidFill>
                <a:srgbClr val="2e406b"/>
              </a:solidFill>
              <a:latin typeface="Arial"/>
            </a:endParaRPr>
          </a:p>
        </p:txBody>
      </p:sp>
      <p:pic>
        <p:nvPicPr>
          <p:cNvPr id="48" name="Picture 5" descr="C:\Documents and Settings\Eduardo G Camargo\Desktop\AE\biblioteca id visual AE + Solidarium\AliancaEmpreendedora-Marca-vs102.jpg"/>
          <p:cNvPicPr/>
          <p:nvPr/>
        </p:nvPicPr>
        <p:blipFill>
          <a:blip r:embed="rId1"/>
          <a:stretch/>
        </p:blipFill>
        <p:spPr>
          <a:xfrm>
            <a:off x="2532240" y="285840"/>
            <a:ext cx="40399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e406b"/>
                </a:solidFill>
                <a:latin typeface="Arial"/>
              </a:rPr>
              <a:t>Escala de Saturação de Cores</a:t>
            </a:r>
            <a:endParaRPr b="0" lang="en-US" sz="4400" spc="-1" strike="noStrike">
              <a:solidFill>
                <a:srgbClr val="2e406b"/>
              </a:solidFill>
              <a:latin typeface="Arial"/>
            </a:endParaRPr>
          </a:p>
        </p:txBody>
      </p:sp>
      <p:pic>
        <p:nvPicPr>
          <p:cNvPr id="96" name="Picture 3" descr="C:\Documents and Settings\Eduardo G Camargo\Desktop\sat1.jpg"/>
          <p:cNvPicPr/>
          <p:nvPr/>
        </p:nvPicPr>
        <p:blipFill>
          <a:blip r:embed="rId1"/>
          <a:stretch/>
        </p:blipFill>
        <p:spPr>
          <a:xfrm>
            <a:off x="357120" y="3286080"/>
            <a:ext cx="8215560" cy="1351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Documents and Settings\Eduardo G Camargo\Desktop\sat2.jpg"/>
          <p:cNvPicPr/>
          <p:nvPr/>
        </p:nvPicPr>
        <p:blipFill>
          <a:blip r:embed="rId2"/>
          <a:stretch/>
        </p:blipFill>
        <p:spPr>
          <a:xfrm>
            <a:off x="357120" y="5186520"/>
            <a:ext cx="8215560" cy="135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C:\Documents and Settings\Eduardo G Camargo\Desktop\sat3.jpg"/>
          <p:cNvPicPr/>
          <p:nvPr/>
        </p:nvPicPr>
        <p:blipFill>
          <a:blip r:embed="rId3"/>
          <a:stretch/>
        </p:blipFill>
        <p:spPr>
          <a:xfrm>
            <a:off x="357120" y="1428840"/>
            <a:ext cx="821556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200" spc="-1" strike="noStrike">
                <a:solidFill>
                  <a:srgbClr val="2e406b"/>
                </a:solidFill>
                <a:latin typeface="Arial"/>
              </a:rPr>
              <a:t>Escala de Brilho ou Luminosidade das Cores</a:t>
            </a:r>
            <a:endParaRPr b="0" lang="en-US" sz="72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14200" y="428760"/>
            <a:ext cx="871560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e406b"/>
                </a:solidFill>
                <a:latin typeface="Arial"/>
              </a:rPr>
              <a:t>Escala de Brilho ou Luminosidade das Cores</a:t>
            </a:r>
            <a:endParaRPr b="0" lang="en-US" sz="3200" spc="-1" strike="noStrike">
              <a:solidFill>
                <a:srgbClr val="2e406b"/>
              </a:solidFill>
              <a:latin typeface="Arial"/>
            </a:endParaRPr>
          </a:p>
        </p:txBody>
      </p:sp>
      <p:pic>
        <p:nvPicPr>
          <p:cNvPr id="101" name="Picture 3" descr="C:\Documents and Settings\Eduardo G Camargo\Desktop\bri1.jpg"/>
          <p:cNvPicPr/>
          <p:nvPr/>
        </p:nvPicPr>
        <p:blipFill>
          <a:blip r:embed="rId1"/>
          <a:stretch/>
        </p:blipFill>
        <p:spPr>
          <a:xfrm>
            <a:off x="214200" y="4857840"/>
            <a:ext cx="8572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2e406b"/>
                </a:solidFill>
                <a:latin typeface="Arial"/>
              </a:rPr>
              <a:t>Juntando tudo isso em uma Paleta de Cores</a:t>
            </a:r>
            <a:endParaRPr b="0" lang="en-US" sz="80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C:\Documents and Settings\Eduardo G Camargo\Desktop\AE\biblioteca id visual AE + Solidarium\Fundo_de_Tela_Aliança_Empreendedora_Jan_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1199880" y="5857560"/>
            <a:ext cx="22287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Obrigado!</a:t>
            </a:r>
            <a:endParaRPr b="0" lang="en-US" sz="28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30000"/>
              </a:lnSpc>
              <a:spcBef>
                <a:spcPts val="901"/>
              </a:spcBef>
              <a:buClr>
                <a:srgbClr val="2e40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2e406b"/>
                </a:solidFill>
                <a:latin typeface="Arial"/>
              </a:rPr>
              <a:t>Como vocês combinam as cores atualmente?</a:t>
            </a:r>
            <a:endParaRPr b="0" lang="en-US" sz="3600" spc="-1" strike="noStrike">
              <a:solidFill>
                <a:srgbClr val="2e406b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spcBef>
                <a:spcPts val="901"/>
              </a:spcBef>
              <a:buClr>
                <a:srgbClr val="2e40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2e406b"/>
                </a:solidFill>
                <a:latin typeface="Arial"/>
              </a:rPr>
              <a:t>Porque vocês acham que é importante saber combinar as cores?</a:t>
            </a:r>
            <a:endParaRPr b="0" lang="en-US" sz="3600" spc="-1" strike="noStrike">
              <a:solidFill>
                <a:srgbClr val="2e406b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spcBef>
                <a:spcPts val="901"/>
              </a:spcBef>
              <a:buClr>
                <a:srgbClr val="2e40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2e406b"/>
                </a:solidFill>
                <a:latin typeface="Arial"/>
              </a:rPr>
              <a:t>Vocês acham que existe um jeito correto de combinar as cores?</a:t>
            </a:r>
            <a:endParaRPr b="0" lang="en-US" sz="3600" spc="-1" strike="noStrike">
              <a:solidFill>
                <a:srgbClr val="2e406b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spcBef>
                <a:spcPts val="901"/>
              </a:spcBef>
              <a:buClr>
                <a:srgbClr val="2e40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2e406b"/>
                </a:solidFill>
                <a:latin typeface="Arial"/>
              </a:rPr>
              <a:t>Quais as cores que vocês mais combinam nos produtos? Porque?</a:t>
            </a:r>
            <a:endParaRPr b="0" lang="en-US" sz="36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2e40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2e406b"/>
                </a:solidFill>
                <a:latin typeface="Arial"/>
              </a:rPr>
              <a:t>Objetivo da Capacitação</a:t>
            </a:r>
            <a:endParaRPr b="0" lang="en-US" sz="3600" spc="-1" strike="noStrike">
              <a:solidFill>
                <a:srgbClr val="2e406b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406b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e406b"/>
                </a:solidFill>
                <a:latin typeface="Arial"/>
              </a:rPr>
              <a:t>Em “Combinação de Cores” você aprenderá o que os especialistas apontam como jeito mais “correto” de se combinar as cores em um produto;</a:t>
            </a:r>
            <a:endParaRPr b="0" lang="en-US" sz="3200" spc="-1" strike="noStrike">
              <a:solidFill>
                <a:srgbClr val="2e406b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e406b"/>
                </a:solidFill>
                <a:latin typeface="Arial"/>
              </a:rPr>
              <a:t>Você também aplicará esse “jeito correto” para o seu caso.</a:t>
            </a:r>
            <a:endParaRPr b="0" lang="en-US" sz="3200" spc="-1" strike="noStrike">
              <a:solidFill>
                <a:srgbClr val="2e406b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2e40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600" spc="-1" strike="noStrike">
                <a:solidFill>
                  <a:srgbClr val="2e406b"/>
                </a:solidFill>
                <a:latin typeface="Arial"/>
              </a:rPr>
              <a:t>Como Enxergamos as Cores?</a:t>
            </a:r>
            <a:endParaRPr b="0" lang="en-US" sz="9600" spc="-1" strike="noStrike">
              <a:solidFill>
                <a:srgbClr val="2e40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\\servidor\Dados 1\BIBLIOTECA VIRTUAL\Biblioteca de imagens\Conceitos, Imagens Ilustrativas, Exemplos, Diagramas e Simbolos\Diversos\IMG_6024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089760"/>
          </a:xfrm>
          <a:prstGeom prst="rect">
            <a:avLst/>
          </a:prstGeom>
          <a:ln w="0">
            <a:noFill/>
          </a:ln>
        </p:spPr>
      </p:pic>
      <p:sp>
        <p:nvSpPr>
          <p:cNvPr id="53" name="Retângulo 8"/>
          <p:cNvSpPr/>
          <p:nvPr/>
        </p:nvSpPr>
        <p:spPr>
          <a:xfrm>
            <a:off x="258120" y="28584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1 Fonte de L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tângulo 9"/>
          <p:cNvSpPr/>
          <p:nvPr/>
        </p:nvSpPr>
        <p:spPr>
          <a:xfrm>
            <a:off x="3945600" y="38448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2 Objeto Ilumi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tângulo 10"/>
          <p:cNvSpPr/>
          <p:nvPr/>
        </p:nvSpPr>
        <p:spPr>
          <a:xfrm>
            <a:off x="6578640" y="107172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3 Ol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ângulo 11"/>
          <p:cNvSpPr/>
          <p:nvPr/>
        </p:nvSpPr>
        <p:spPr>
          <a:xfrm>
            <a:off x="5725080" y="28584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4 Céreb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Documents and Settings\Eduardo G Camargo\Desktop\89756487.jpg"/>
          <p:cNvPicPr/>
          <p:nvPr/>
        </p:nvPicPr>
        <p:blipFill>
          <a:blip r:embed="rId2"/>
          <a:stretch/>
        </p:blipFill>
        <p:spPr>
          <a:xfrm>
            <a:off x="0" y="0"/>
            <a:ext cx="92296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CaixaDeTexto 3"/>
          <p:cNvSpPr/>
          <p:nvPr/>
        </p:nvSpPr>
        <p:spPr>
          <a:xfrm>
            <a:off x="367920" y="6243480"/>
            <a:ext cx="83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O Arco-Íris é a Luz Branca do Sol dividida pelas gotículas da chu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928800" y="39600"/>
            <a:ext cx="742932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La Parade 1888 - Georges Seurat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145200"/>
          </a:xfrm>
          <a:prstGeom prst="rect">
            <a:avLst/>
          </a:prstGeom>
          <a:ln w="0">
            <a:noFill/>
          </a:ln>
        </p:spPr>
      </p:pic>
      <p:sp>
        <p:nvSpPr>
          <p:cNvPr id="64" name="CaixaDeTexto 4"/>
          <p:cNvSpPr/>
          <p:nvPr/>
        </p:nvSpPr>
        <p:spPr>
          <a:xfrm>
            <a:off x="71640" y="6286680"/>
            <a:ext cx="5516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"La Parade du Cirque" , Georges Seurat (1888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21:27:27Z</dcterms:created>
  <dc:creator>Cliente</dc:creator>
  <dc:description/>
  <dc:language>en-US</dc:language>
  <cp:lastModifiedBy>Aline</cp:lastModifiedBy>
  <dcterms:modified xsi:type="dcterms:W3CDTF">2010-12-06T15:56:38Z</dcterms:modified>
  <cp:revision>605</cp:revision>
  <dc:subject/>
  <dc:title>Slide 1</dc:title>
</cp:coreProperties>
</file>