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F38-D308-47D2-B786-D326D261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368-D47B-4892-ABB2-7C697470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38C-74F1-41BF-B235-0050571A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621-9B0B-4C87-9561-CDC14EA3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409-299D-4AC1-8804-0FFD7342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16D-B6FE-4CF0-A784-BC7976CF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2C3-0CBD-4F60-BC7B-4533EADA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DE1-CE92-4F47-9995-E1B52ABE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7DD-769E-473D-9C4A-652F777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807-242C-4073-99E2-08A3656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DE9-BEDD-49AA-8B97-A29D14BB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07B-B3CB-4185-A26A-584C53A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44A9-1771-4ED2-8332-6625D8C8D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ocdiedesign.com.br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arazistudio.com/index.html?project_id=149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Que é Eco-Design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Qual a importância dos produtos ecologicamente corretos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Dê exemplos de produtos ecologicamente corret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O que faz esses produtos serem considerados ecológico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4"/>
          <p:cNvSpPr/>
          <p:nvPr/>
        </p:nvSpPr>
        <p:spPr>
          <a:xfrm>
            <a:off x="4464000" y="1628640"/>
            <a:ext cx="468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igos International é uma distribuidora de produtos orgânicos. Além dos ingredientes, suas embalagens visam o aspecto ecológico, por isso que eles começaram a buscar alternativas mais ecologicamente corretas, o que levou à Innovia Films e ao NatureFlex™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filmes NatureFlex™ são feitos à base de celulose derivada de polpa de madeira renovável e certificados em conformidade com o padrão Europeu EN13432 e o padrão Americano ASTM D6400 de embalagem compostável. A polpa de madeira é obtida de plantações controladas de fornecedores que produzem segundo as boas práticas de manejo florestal (FSC ou equivalent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4762440" cy="4448160"/>
          </a:xfrm>
          <a:prstGeom prst="rect">
            <a:avLst/>
          </a:prstGeom>
          <a:ln w="0">
            <a:noFill/>
          </a:ln>
        </p:spPr>
      </p:pic>
      <p:sp>
        <p:nvSpPr>
          <p:cNvPr id="65" name="CaixaDeTexto 4"/>
          <p:cNvSpPr/>
          <p:nvPr/>
        </p:nvSpPr>
        <p:spPr>
          <a:xfrm>
            <a:off x="4859280" y="112536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a solução que eles encontraram foi mais que perfeita: utilizar embalagens de TetraPak de leite/sucos como matéria prima. O lado interno da embalagem, sempre prateado, serve para levar as informações da empresa e o lado colorido, vem com o logo da empre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mais interessante é saber que os cartões foram criados com o material que os próprios funcionários levam para a empresa todos os dias. A idéia é tão boa que rendeu a eles o prêmio IDEA na versão nacional e internacional. Mereci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2905200" cy="38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29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0" y="2205000"/>
            <a:ext cx="2766960" cy="201600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6"/>
          <p:cNvSpPr/>
          <p:nvPr/>
        </p:nvSpPr>
        <p:spPr>
          <a:xfrm>
            <a:off x="4643280" y="0"/>
            <a:ext cx="4500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TE PROJETO, O DESIGNER DESENVOLVEU UMA LINHA DE PRODUÇÃ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m os integrantes de uma cooperativa de inclusão social no sul do Pará, na Amazônia, tendo o design como ferramenta estratégica. O principal desafio foi desenvolver peças atraentes a partir de materiais de descarte e superar as limitações técnicas de maquinário e de mão-de-obra. Os materiais utilizados são resíduos de uma fábrica de alumínio da região: borracha das correias que transportam minério e madeira das embalagens dos equipamentos. A linha de produtos é voltada para os segmentos: utilitários, pequenos móveis, mercado corporativo e moda. Para impulsionar o projeto, também foram criados uma identidade visual, um site, um catálogo e gôndolas para expor os produtos e facilitar sua comercialização. A interação da borracha com a madeira, as estampas exclusivas e a exploração da maleabilidade da borracha, resultando em efeitos visuais interessantes, são os principais diferenciais da coleção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OSIÇÃO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orracha e madeiras reciclad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O Que é Eco-Desig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Espaço Reservado para Conteúdo 2"/>
          <p:cNvSpPr/>
          <p:nvPr/>
        </p:nvSpPr>
        <p:spPr>
          <a:xfrm>
            <a:off x="468360" y="2133720"/>
            <a:ext cx="82072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É a abordagem conceitual e processual da produção que requer que todas as fases do ciclo de vida de um produto ou de um processo devem ser orientadas para o objetivo de prevenção 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ação de riscos, de curto ou longo prazo, à saúde humana e ao meio ambiente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aixaDeTexto 6"/>
          <p:cNvSpPr/>
          <p:nvPr/>
        </p:nvSpPr>
        <p:spPr>
          <a:xfrm>
            <a:off x="6880320" y="443700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fredo Oliv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Qual a importância dos produtos ecologicamente correto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zir impactos causados ao meio amb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gar valor ao produto, atraindo consumid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ê exemplos de produtos ecologicamente corre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048200" cy="247644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4"/>
          <p:cNvSpPr/>
          <p:nvPr/>
        </p:nvSpPr>
        <p:spPr>
          <a:xfrm>
            <a:off x="539640" y="45496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envolvida pela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ocDie Desig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, a Paçoca é feita de papel craft reciclado com tampa de aço galvanizado e detalhe de acrílico 100% reciclável. Para completar, a cola usada para fixar o acrílico no aço é a única com selo de responsabilidade ambiental no Bras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de ser utilizada como banqueta, mesinha, baú ou o que mais o dono quiser. Ela pode, inclusive, ter mais de uma função ao mesmo tempo: enquanto a parte de dentro serve para guarda o edredom, por exemplo, a parte de fora pode ser usada como o criado-mudo do quar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048200" cy="24768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4"/>
          <p:cNvSpPr/>
          <p:nvPr/>
        </p:nvSpPr>
        <p:spPr>
          <a:xfrm>
            <a:off x="611280" y="3716280"/>
            <a:ext cx="691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artista chinês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zri Tarazi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aceitou o desafio de criar 10 produtos, com funções diferentes, utilizando a mesma matéria-prima: o bamb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ão revisteiros, cabideiros, caixas de som e até mesmo uma estante para acomodação do computador. As propriedades do bambu foi o que mais chamou a atenção do artista. “O que é mais interessante no bambu é que ele cresce muito rápido, além de ser forte e renovável”, disse Ezri Taraz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4762440" cy="196236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4"/>
          <p:cNvSpPr/>
          <p:nvPr/>
        </p:nvSpPr>
        <p:spPr>
          <a:xfrm>
            <a:off x="1116000" y="364500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clu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desenvolver um presente que representasse a transformação de resíduos em recurs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balagem se transforma em luminá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762440" cy="414324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4"/>
          <p:cNvSpPr/>
          <p:nvPr/>
        </p:nvSpPr>
        <p:spPr>
          <a:xfrm>
            <a:off x="971640" y="494172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ado pelo design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ason Iftakh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situado em Londres, o banco é feito co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aixas de papelão usad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que depois são agrupadas e comprenssadas com uma fita plástica. Segundo o designer a idéia do projeto foi conseguir fazer o mobiliário a partir de máquinas e materi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57" name="CaixaDeTexto 4"/>
          <p:cNvSpPr/>
          <p:nvPr/>
        </p:nvSpPr>
        <p:spPr>
          <a:xfrm>
            <a:off x="755640" y="400536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balagens desenvolvidas com folha de banana, material em abundancia em todo mundo. As folhas são flexíveis, de fácil corte e não é necessária a utilização de cola para a confecção dos paco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a sugestão de produto sustentável, que utiliza uma matéria-prima descartada, pelo fato de seu plantio dar se pelo seu fruto e não por suas folhas, o que substituiria materiais que agridam nosso meio ambi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079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440" cy="23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762440" cy="3524400"/>
          </a:xfrm>
          <a:prstGeom prst="rect">
            <a:avLst/>
          </a:prstGeom>
          <a:ln w="0">
            <a:noFill/>
          </a:ln>
        </p:spPr>
      </p:pic>
      <p:sp>
        <p:nvSpPr>
          <p:cNvPr id="61" name="CaixaDeTexto 5"/>
          <p:cNvSpPr/>
          <p:nvPr/>
        </p:nvSpPr>
        <p:spPr>
          <a:xfrm>
            <a:off x="468360" y="3718080"/>
            <a:ext cx="475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s uma nova função para as garrafas PET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bi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produto vem com um suporte principal que é o gancho para pendurar no armário e nas laterais o encaixe de rosca para conectar as garraf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cabide é criação do design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uan Y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ara adquiri-lo  é só acessar o site d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think Hang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Está disponível em duas cores (verde e amarelo) e custa US$7,99 cada, sendo que 10% desse valor vai para instituições de carida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3:40:33Z</dcterms:created>
  <dc:creator>Aliança Empreendedor</dc:creator>
  <dc:description/>
  <dc:language>en-US</dc:language>
  <cp:lastModifiedBy>Space Br</cp:lastModifiedBy>
  <dcterms:modified xsi:type="dcterms:W3CDTF">2010-07-22T18:22:37Z</dcterms:modified>
  <cp:revision>25</cp:revision>
  <dc:subject/>
  <dc:title>-O Que é Eco-Design?   -Qual a importância dos produtos ecologicamente corretos?  - Dê exemplos de produtos ecologicamente corretos  - O que faz esses produtos serem considerados ecológicos?</dc:title>
</cp:coreProperties>
</file>