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EA8C-763F-4597-84FA-2328961279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569E-5DB6-40F3-8D8E-B1E2B876AAC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D8F2-A908-4686-9192-F176B301BFD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429B-403E-4805-87D5-E4F437209A2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B33-909B-4571-BC57-A30C3EB9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CD4-2976-437D-A0C9-29F7E03E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470-2D85-4670-B962-FE25E4D2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069-9038-40B6-9ECB-A2D34793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57C-64CC-4230-851F-3B0EBD13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AEA-5FA0-4FE7-AFF5-8DD4F40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3B4-E9DA-488E-8801-5C799EE2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F3D-CEE9-4717-A364-ED1C0A3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EF0-EDA4-488B-8661-D6EA798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F39-4427-4202-A40F-3F5D2EE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1D6-53AD-4282-BDE0-8E02719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DD0-3FF2-4FE1-B4FA-8BE0CAE1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4406-FCCC-41BC-88C0-96392137D25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889280" y="1143000"/>
            <a:ext cx="53974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Space Br\ALIANÇA EMPREENDEDORA\DESIGN\METODOLOGIA\imagens cultura\GabintesApoioEmpres%C3%A1rio.jpg"/>
          <p:cNvPicPr/>
          <p:nvPr/>
        </p:nvPicPr>
        <p:blipFill>
          <a:blip r:embed="rId1"/>
          <a:stretch/>
        </p:blipFill>
        <p:spPr>
          <a:xfrm>
            <a:off x="1857240" y="857160"/>
            <a:ext cx="522144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Space Br\ALIANÇA EMPREENDEDORA\DESIGN\METODOLOGIA\imagens cultura\cumprimento japonês.jpg"/>
          <p:cNvPicPr/>
          <p:nvPr/>
        </p:nvPicPr>
        <p:blipFill>
          <a:blip r:embed="rId1"/>
          <a:stretch/>
        </p:blipFill>
        <p:spPr>
          <a:xfrm>
            <a:off x="1714680" y="571680"/>
            <a:ext cx="585756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Space Br\ALIANÇA EMPREENDEDORA\DESIGN\METODOLOGIA\imagens cultura\conversa de calçada.jpg"/>
          <p:cNvPicPr/>
          <p:nvPr/>
        </p:nvPicPr>
        <p:blipFill>
          <a:blip r:embed="rId1"/>
          <a:stretch/>
        </p:blipFill>
        <p:spPr>
          <a:xfrm>
            <a:off x="928800" y="642960"/>
            <a:ext cx="73245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Space Br\ALIANÇA EMPREENDEDORA\DESIGN\METODOLOGIA\imagens cultura\suástica.jpg"/>
          <p:cNvPicPr/>
          <p:nvPr/>
        </p:nvPicPr>
        <p:blipFill>
          <a:blip r:embed="rId1"/>
          <a:stretch/>
        </p:blipFill>
        <p:spPr>
          <a:xfrm>
            <a:off x="2000160" y="1000080"/>
            <a:ext cx="47656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pace Br\ALIANÇA EMPREENDEDORA\DESIGN\METODOLOGIA\imagens cultura\vasodebarro.jpg"/>
          <p:cNvPicPr/>
          <p:nvPr/>
        </p:nvPicPr>
        <p:blipFill>
          <a:blip r:embed="rId1"/>
          <a:stretch/>
        </p:blipFill>
        <p:spPr>
          <a:xfrm>
            <a:off x="1071720" y="1000080"/>
            <a:ext cx="7051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Space Br\ALIANÇA EMPREENDEDORA\DESIGN\METODOLOGIA\imagens cultura\escarifica%C3%A7%C3%A3o.jpg"/>
          <p:cNvPicPr/>
          <p:nvPr/>
        </p:nvPicPr>
        <p:blipFill>
          <a:blip r:embed="rId1"/>
          <a:stretch/>
        </p:blipFill>
        <p:spPr>
          <a:xfrm>
            <a:off x="2286000" y="571680"/>
            <a:ext cx="421488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450864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pacitação e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conografia e Valor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0" t="0" r="0" b="14309"/>
          <a:stretch/>
        </p:blipFill>
        <p:spPr>
          <a:xfrm>
            <a:off x="2484360" y="1003320"/>
            <a:ext cx="40402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Space Br\ALIANÇA EMPREENDEDORA\DESIGN\METODOLOGIA\imagens cultura\coco raízes.jpg"/>
          <p:cNvPicPr/>
          <p:nvPr/>
        </p:nvPicPr>
        <p:blipFill>
          <a:blip r:embed="rId1"/>
          <a:stretch/>
        </p:blipFill>
        <p:spPr>
          <a:xfrm>
            <a:off x="714240" y="857160"/>
            <a:ext cx="7902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Space Br\ALIANÇA EMPREENDEDORA\DESIGN\METODOLOGIA\imagens cultura\bumbameuboi.jpg"/>
          <p:cNvPicPr/>
          <p:nvPr/>
        </p:nvPicPr>
        <p:blipFill>
          <a:blip r:embed="rId1"/>
          <a:stretch/>
        </p:blipFill>
        <p:spPr>
          <a:xfrm>
            <a:off x="785880" y="714240"/>
            <a:ext cx="7558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pace Br\ALIANÇA EMPREENDEDORA\DESIGN\METODOLOGIA\imagens cultura\van gogh.jpg"/>
          <p:cNvPicPr/>
          <p:nvPr/>
        </p:nvPicPr>
        <p:blipFill>
          <a:blip r:embed="rId1"/>
          <a:stretch/>
        </p:blipFill>
        <p:spPr>
          <a:xfrm>
            <a:off x="1000080" y="642960"/>
            <a:ext cx="7189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Space Br\ALIANÇA EMPREENDEDORA\DESIGN\METODOLOGIA\imagens cultura\teatro grego.jpg"/>
          <p:cNvPicPr/>
          <p:nvPr/>
        </p:nvPicPr>
        <p:blipFill>
          <a:blip r:embed="rId1"/>
          <a:stretch/>
        </p:blipFill>
        <p:spPr>
          <a:xfrm>
            <a:off x="1000080" y="857160"/>
            <a:ext cx="71438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pace Br\ALIANÇA EMPREENDEDORA\DESIGN\METODOLOGIA\imagens cultura\alimentacao.jpg"/>
          <p:cNvPicPr/>
          <p:nvPr/>
        </p:nvPicPr>
        <p:blipFill>
          <a:blip r:embed="rId1"/>
          <a:stretch/>
        </p:blipFill>
        <p:spPr>
          <a:xfrm>
            <a:off x="2357280" y="428760"/>
            <a:ext cx="4500720" cy="61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Space Br\ALIANÇA EMPREENDEDORA\DESIGN\METODOLOGIA\imagens cultura\escorpião.bmp"/>
          <p:cNvPicPr/>
          <p:nvPr/>
        </p:nvPicPr>
        <p:blipFill>
          <a:blip r:embed="rId1"/>
          <a:stretch/>
        </p:blipFill>
        <p:spPr>
          <a:xfrm>
            <a:off x="976320" y="785880"/>
            <a:ext cx="69534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Space Br\ALIANÇA EMPREENDEDORA\DESIGN\METODOLOGIA\imagens cultura\casa-de-taipa.jpg"/>
          <p:cNvPicPr/>
          <p:nvPr/>
        </p:nvPicPr>
        <p:blipFill>
          <a:blip r:embed="rId1"/>
          <a:stretch/>
        </p:blipFill>
        <p:spPr>
          <a:xfrm>
            <a:off x="928800" y="714240"/>
            <a:ext cx="7334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9:11Z</dcterms:created>
  <dc:creator>Space Br</dc:creator>
  <dc:description/>
  <dc:language>en-US</dc:language>
  <cp:lastModifiedBy>Valued Acer Customer</cp:lastModifiedBy>
  <dcterms:modified xsi:type="dcterms:W3CDTF">2010-04-09T14:50:49Z</dcterms:modified>
  <cp:revision>3</cp:revision>
  <dc:subject/>
  <dc:title>Slide 1</dc:title>
</cp:coreProperties>
</file>