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7CE7-9AD8-4295-9FB0-E8592CFFA57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7389-9173-4A06-9A47-528F661255A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A51F-9C96-4762-AFA1-6E897097704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4D12-C748-4532-BDF9-DBC6C5484D53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BF6-FC5A-4129-8C0F-EBC4D8F6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79A7-1B6F-4C38-90C9-831C7534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A4E7-69E1-460E-BF45-0C590C41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9A0-7A41-4C2D-A448-71225E0C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B30E-CE88-4DBE-8B8F-29C8597B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5AB3-0E38-4F9F-AB3B-7608F212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FB67-325E-4DC0-8D3F-1D2986EA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747-582E-49C0-9875-EE2E9A1D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5BD4-38FA-4CF5-BB2C-EF7E2F00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856E-34D2-41FF-87FF-F94869D6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015B-3E18-4767-A775-E4F4C8F3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5FA0-876D-4B5D-9782-F729ACC2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3A91-CCE8-41B1-B61C-28D09604115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889280" y="1143000"/>
            <a:ext cx="53974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Space Br\ALIANÇA EMPREENDEDORA\DESIGN\Produtos Conceito\Cactos-3.jpg"/>
          <p:cNvPicPr/>
          <p:nvPr/>
        </p:nvPicPr>
        <p:blipFill>
          <a:blip r:embed="rId1"/>
          <a:stretch/>
        </p:blipFill>
        <p:spPr>
          <a:xfrm>
            <a:off x="714240" y="1428840"/>
            <a:ext cx="4643640" cy="464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Space Br\ALIANÇA EMPREENDEDORA\DESIGN\Produtos Conceito\Cactos-1.jpg"/>
          <p:cNvPicPr/>
          <p:nvPr/>
        </p:nvPicPr>
        <p:blipFill>
          <a:blip r:embed="rId2"/>
          <a:stretch/>
        </p:blipFill>
        <p:spPr>
          <a:xfrm>
            <a:off x="4500720" y="285840"/>
            <a:ext cx="38098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Space Br\ALIANÇA EMPREENDEDORA\DESIGN\Produtos Conceito\Cacaco-2.jpg"/>
          <p:cNvPicPr/>
          <p:nvPr/>
        </p:nvPicPr>
        <p:blipFill>
          <a:blip r:embed="rId1"/>
          <a:stretch/>
        </p:blipFill>
        <p:spPr>
          <a:xfrm>
            <a:off x="1428840" y="1500120"/>
            <a:ext cx="647856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Space Br\ALIANÇA EMPREENDEDORA\DESIGN\Produtos Conceito\Cachecol-2.jpg"/>
          <p:cNvPicPr/>
          <p:nvPr/>
        </p:nvPicPr>
        <p:blipFill>
          <a:blip r:embed="rId1"/>
          <a:stretch/>
        </p:blipFill>
        <p:spPr>
          <a:xfrm>
            <a:off x="2000160" y="857160"/>
            <a:ext cx="53578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Space Br\ALIANÇA EMPREENDEDORA\DESIGN\Produtos Conceito\Colch_o.jpg"/>
          <p:cNvPicPr/>
          <p:nvPr/>
        </p:nvPicPr>
        <p:blipFill>
          <a:blip r:embed="rId1"/>
          <a:stretch/>
        </p:blipFill>
        <p:spPr>
          <a:xfrm>
            <a:off x="1682640" y="746280"/>
            <a:ext cx="5380200" cy="53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Space Br\ALIANÇA EMPREENDEDORA\DESIGN\Produtos Conceito\Crocos.jpg"/>
          <p:cNvPicPr/>
          <p:nvPr/>
        </p:nvPicPr>
        <p:blipFill>
          <a:blip r:embed="rId1"/>
          <a:stretch/>
        </p:blipFill>
        <p:spPr>
          <a:xfrm>
            <a:off x="1214280" y="541440"/>
            <a:ext cx="628668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Space Br\ALIANÇA EMPREENDEDORA\DESIGN\Produtos Conceito\Bichos.jpg"/>
          <p:cNvPicPr/>
          <p:nvPr/>
        </p:nvPicPr>
        <p:blipFill>
          <a:blip r:embed="rId1"/>
          <a:stretch/>
        </p:blipFill>
        <p:spPr>
          <a:xfrm>
            <a:off x="1357200" y="857160"/>
            <a:ext cx="654552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Space Br\ALIANÇA EMPREENDEDORA\DESIGN\Produtos Conceito\Velice-2.jpg"/>
          <p:cNvPicPr/>
          <p:nvPr/>
        </p:nvPicPr>
        <p:blipFill>
          <a:blip r:embed="rId1"/>
          <a:stretch/>
        </p:blipFill>
        <p:spPr>
          <a:xfrm>
            <a:off x="1714680" y="714240"/>
            <a:ext cx="54291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Space Br\ALIANÇA EMPREENDEDORA\DESIGN\Produtos Conceito\Tenis-1.jpg"/>
          <p:cNvPicPr/>
          <p:nvPr/>
        </p:nvPicPr>
        <p:blipFill>
          <a:blip r:embed="rId1"/>
          <a:stretch/>
        </p:blipFill>
        <p:spPr>
          <a:xfrm>
            <a:off x="1500120" y="1000080"/>
            <a:ext cx="59119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Space Br\ALIANÇA EMPREENDEDORA\DESIGN\Produtos Conceito\Gottacha.jpg"/>
          <p:cNvPicPr/>
          <p:nvPr/>
        </p:nvPicPr>
        <p:blipFill>
          <a:blip r:embed="rId1"/>
          <a:stretch/>
        </p:blipFill>
        <p:spPr>
          <a:xfrm>
            <a:off x="2143080" y="9288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Space Br\ALIANÇA EMPREENDEDORA\DESIGN\Produtos Conceito\Ianomami-2.jpg"/>
          <p:cNvPicPr/>
          <p:nvPr/>
        </p:nvPicPr>
        <p:blipFill>
          <a:blip r:embed="rId1"/>
          <a:stretch/>
        </p:blipFill>
        <p:spPr>
          <a:xfrm>
            <a:off x="1714680" y="714240"/>
            <a:ext cx="540360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457200" y="450864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pacitação em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conografia e Valor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dutos Conce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rcRect l="0" t="0" r="0" b="14309"/>
          <a:stretch/>
        </p:blipFill>
        <p:spPr>
          <a:xfrm>
            <a:off x="2484360" y="1003320"/>
            <a:ext cx="404028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Space Br\ALIANÇA EMPREENDEDORA\DESIGN\Produtos Conceito\Xixi-1.jpg"/>
          <p:cNvPicPr/>
          <p:nvPr/>
        </p:nvPicPr>
        <p:blipFill>
          <a:blip r:embed="rId1"/>
          <a:stretch/>
        </p:blipFill>
        <p:spPr>
          <a:xfrm>
            <a:off x="1285920" y="714240"/>
            <a:ext cx="6321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Space Br\ALIANÇA EMPREENDEDORA\DESIGN\Produtos Conceito\Xixi-2.jpg"/>
          <p:cNvPicPr/>
          <p:nvPr/>
        </p:nvPicPr>
        <p:blipFill>
          <a:blip r:embed="rId1"/>
          <a:stretch/>
        </p:blipFill>
        <p:spPr>
          <a:xfrm>
            <a:off x="1071720" y="714240"/>
            <a:ext cx="678636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Space Br\ALIANÇA EMPREENDEDORA\DESIGN\Produtos Conceito\Estojo-pneu-1.jpg"/>
          <p:cNvPicPr/>
          <p:nvPr/>
        </p:nvPicPr>
        <p:blipFill>
          <a:blip r:embed="rId1"/>
          <a:stretch/>
        </p:blipFill>
        <p:spPr>
          <a:xfrm>
            <a:off x="1500120" y="428760"/>
            <a:ext cx="62150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Users\Space Br\ALIANÇA EMPREENDEDORA\DESIGN\Produtos Conceito\Mala-1.jpg"/>
          <p:cNvPicPr/>
          <p:nvPr/>
        </p:nvPicPr>
        <p:blipFill>
          <a:blip r:embed="rId1"/>
          <a:stretch/>
        </p:blipFill>
        <p:spPr>
          <a:xfrm>
            <a:off x="1785960" y="714240"/>
            <a:ext cx="55008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Space Br\ALIANÇA EMPREENDEDORA\DESIGN\Produtos Conceito\Iogurte-1.jpg"/>
          <p:cNvPicPr/>
          <p:nvPr/>
        </p:nvPicPr>
        <p:blipFill>
          <a:blip r:embed="rId1"/>
          <a:stretch/>
        </p:blipFill>
        <p:spPr>
          <a:xfrm>
            <a:off x="1928880" y="1285920"/>
            <a:ext cx="5391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Space Br\ALIANÇA EMPREENDEDORA\DESIGN\Produtos Conceito\Sapatinhos.jpg"/>
          <p:cNvPicPr/>
          <p:nvPr/>
        </p:nvPicPr>
        <p:blipFill>
          <a:blip r:embed="rId1"/>
          <a:stretch/>
        </p:blipFill>
        <p:spPr>
          <a:xfrm>
            <a:off x="2143080" y="1000080"/>
            <a:ext cx="477828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Space Br\ALIANÇA EMPREENDEDORA\DESIGN\Produtos Conceito\Babador.jpg"/>
          <p:cNvPicPr/>
          <p:nvPr/>
        </p:nvPicPr>
        <p:blipFill>
          <a:blip r:embed="rId1"/>
          <a:stretch/>
        </p:blipFill>
        <p:spPr>
          <a:xfrm>
            <a:off x="1643040" y="57168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Space Br\ALIANÇA EMPREENDEDORA\DESIGN\Produtos Conceito\Playbox-1.jpg"/>
          <p:cNvPicPr/>
          <p:nvPr/>
        </p:nvPicPr>
        <p:blipFill>
          <a:blip r:embed="rId1"/>
          <a:stretch/>
        </p:blipFill>
        <p:spPr>
          <a:xfrm>
            <a:off x="1214280" y="357120"/>
            <a:ext cx="6072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Space Br\ALIANÇA EMPREENDEDORA\DESIGN\Produtos Conceito\Maletas-1.jpg"/>
          <p:cNvPicPr/>
          <p:nvPr/>
        </p:nvPicPr>
        <p:blipFill>
          <a:blip r:embed="rId1"/>
          <a:stretch/>
        </p:blipFill>
        <p:spPr>
          <a:xfrm>
            <a:off x="1000080" y="642960"/>
            <a:ext cx="3809880" cy="3800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Space Br\ALIANÇA EMPREENDEDORA\DESIGN\Produtos Conceito\Maletas-2.jpg"/>
          <p:cNvPicPr/>
          <p:nvPr/>
        </p:nvPicPr>
        <p:blipFill>
          <a:blip r:embed="rId2"/>
          <a:stretch/>
        </p:blipFill>
        <p:spPr>
          <a:xfrm>
            <a:off x="4500720" y="2357280"/>
            <a:ext cx="38098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8:44:49Z</dcterms:created>
  <dc:creator>Space Br</dc:creator>
  <dc:description/>
  <dc:language>en-US</dc:language>
  <cp:lastModifiedBy>Valued Acer Customer</cp:lastModifiedBy>
  <dcterms:modified xsi:type="dcterms:W3CDTF">2010-04-09T14:52:12Z</dcterms:modified>
  <cp:revision>4</cp:revision>
  <dc:subject/>
  <dc:title>Slide 1</dc:title>
</cp:coreProperties>
</file>